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png" ContentType="image/png"/>
  <Override PartName="/ppt/media/image6.jpeg" ContentType="image/jpeg"/>
  <Override PartName="/ppt/media/image5.wmf" ContentType="image/x-wmf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E54C-08A7-4508-AFEC-D886C17B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256F-F12F-45F1-B16F-AFAF0051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A326-F95D-443E-8829-13516293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29A2-2BF4-465F-B99E-DF74FD68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3A96-CF02-4832-AB21-2D416E4C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DAF0-3C02-4218-AB17-49574817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6DF8-B17A-494A-858B-70290931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47A6-A2AA-45A6-96BA-1AFF0E75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6E20-9E9D-4622-A81B-6B2AE23D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4C76-3385-4F89-A5F8-96FD000E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ECD9-14C1-42A9-83CC-3452C524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8CFD-CE9B-4A91-A07F-81C4754E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F47F-1F5C-4EAD-8E2F-D27066650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90;&#1086;&#1084;&#1085;&#1072;&#1103;_&#1084;&#1072;&#1089;&#1089;&#1072;" TargetMode="External"/><Relationship Id="rId2" Type="http://schemas.openxmlformats.org/officeDocument/2006/relationships/hyperlink" Target="http://ru.wikipedia.org/wiki/&#1041;&#1077;&#1088;&#1080;&#1083;&#1083;&#1080;&#1081;" TargetMode="External"/><Relationship Id="rId3" Type="http://schemas.openxmlformats.org/officeDocument/2006/relationships/hyperlink" Target="http://ru.wikipedia.org/wiki/&#1048;&#1085;&#1076;&#1080;&#1081;" TargetMode="External"/><Relationship Id="rId4" Type="http://schemas.openxmlformats.org/officeDocument/2006/relationships/hyperlink" Target="http://ru.wikipedia.org/wiki/&#1059;&#1088;&#1072;&#1085;_(&#1101;&#1083;&#1077;&#1084;&#1077;&#1085;&#1090;)" TargetMode="External"/><Relationship Id="rId5" Type="http://schemas.openxmlformats.org/officeDocument/2006/relationships/hyperlink" Target="http://ru.wikipedia.org/wiki/&#1058;&#1086;&#1088;&#1080;&#1081;" TargetMode="External"/><Relationship Id="rId6" Type="http://schemas.openxmlformats.org/officeDocument/2006/relationships/hyperlink" Target="http://ru.wikipedia.org/wiki/&#1062;&#1077;&#1088;&#1080;&#1081;" TargetMode="External"/><Relationship Id="rId7" Type="http://schemas.openxmlformats.org/officeDocument/2006/relationships/image" Target="../media/image15.wmf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ция 2.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Периодический закон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 Д.И. Менделе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Донской государственный технический университ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Кафедра «Хим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0920" y="4365720"/>
            <a:ext cx="13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Кужаров А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Нови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современно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одическ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7200720" cy="5100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15160" y="2421000"/>
            <a:ext cx="142884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1505160" cy="828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219640" y="2133720"/>
            <a:ext cx="1524240" cy="838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780000" y="2997360"/>
            <a:ext cx="152388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435640" y="2997360"/>
            <a:ext cx="154296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2916360" y="3860640"/>
            <a:ext cx="3162240" cy="866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Моз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2952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вадратный корень из частоты для каждой линии спектра рентгеновских лучей есть приблизительно линейная функция атомного номе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Ридбе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экран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главное квантовое чис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\sqrt{\frac{\nu}{R}} = \frac{Z-S_n}{n}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1280" y="3068640"/>
            <a:ext cx="2232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60720" y="1125360"/>
            <a:ext cx="5183280" cy="4125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47640" y="2997360"/>
            <a:ext cx="7417080" cy="936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8" name=""/>
          <p:cNvSpPr/>
          <p:nvPr/>
        </p:nvSpPr>
        <p:spPr>
          <a:xfrm flipH="1">
            <a:off x="5076360" y="2276640"/>
            <a:ext cx="358920" cy="647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1700280"/>
            <a:ext cx="4824360" cy="57636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680"/>
            <a:ext cx="7067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ричины период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979640" y="1052640"/>
          <a:ext cx="5759280" cy="5556240"/>
        </p:xfrm>
        <a:graphic>
          <a:graphicData uri="http://schemas.openxmlformats.org/drawingml/2006/table">
            <a:tbl>
              <a:tblPr/>
              <a:tblGrid>
                <a:gridCol w="716040"/>
                <a:gridCol w="2008080"/>
                <a:gridCol w="30351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ий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ая форму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войства химических элементов находятся в периодической зависимости от заряда ядер атомов химических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исимость радиуса атома от порядкового номера эле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314360"/>
            <a:ext cx="896472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ио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58920" y="2924280"/>
          <a:ext cx="6443640" cy="730080"/>
        </p:xfrm>
        <a:graphic>
          <a:graphicData uri="http://schemas.openxmlformats.org/drawingml/2006/table">
            <a:tbl>
              <a:tblPr/>
              <a:tblGrid>
                <a:gridCol w="804960"/>
                <a:gridCol w="806400"/>
                <a:gridCol w="804960"/>
                <a:gridCol w="806400"/>
                <a:gridCol w="804600"/>
                <a:gridCol w="804960"/>
                <a:gridCol w="806400"/>
                <a:gridCol w="804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нергией ионизации (потенциалом ионизации) - работа, необходимая для отрыва электрона от нейтрального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 – ē = Э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227664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потенциал ионизации элементов третьего пери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700360" y="4797360"/>
          <a:ext cx="4032000" cy="1152360"/>
        </p:xfrm>
        <a:graphic>
          <a:graphicData uri="http://schemas.openxmlformats.org/drawingml/2006/table">
            <a:tbl>
              <a:tblPr/>
              <a:tblGrid>
                <a:gridCol w="2275560"/>
                <a:gridCol w="175644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3,39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75,6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22,4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971640" y="393372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и третий потенциал ионизации значительно выше, чем первый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7380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висимость первого потенциала ионизации от порядкового номера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сродства к электр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3357720"/>
          <a:ext cx="8362800" cy="793440"/>
        </p:xfrm>
        <a:graphic>
          <a:graphicData uri="http://schemas.openxmlformats.org/drawingml/2006/table">
            <a:tbl>
              <a:tblPr/>
              <a:tblGrid>
                <a:gridCol w="1234800"/>
                <a:gridCol w="1017720"/>
                <a:gridCol w="1019160"/>
                <a:gridCol w="1017720"/>
                <a:gridCol w="1019160"/>
                <a:gridCol w="1017360"/>
                <a:gridCol w="1019160"/>
                <a:gridCol w="101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в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личество энергии, выделяемое нейтральным атомом, находящимся в состоянии с наименьшей энергией, при присоединении к нему одного электр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 + ē = Э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484360" y="5300640"/>
          <a:ext cx="4038480" cy="968400"/>
        </p:xfrm>
        <a:graphic>
          <a:graphicData uri="http://schemas.openxmlformats.org/drawingml/2006/table">
            <a:tbl>
              <a:tblPr/>
              <a:tblGrid>
                <a:gridCol w="1101600"/>
                <a:gridCol w="1101600"/>
                <a:gridCol w="1101960"/>
                <a:gridCol w="7333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050920" y="2852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ерио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45813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одгруппе, э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1503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отриц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а относительной способности  атомов оттягивать на себя общую электронную пару при образовании химической свя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.О.=J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Е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46280" y="88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26920" y="2133720"/>
          <a:ext cx="7056360" cy="4089240"/>
        </p:xfrm>
        <a:graphic>
          <a:graphicData uri="http://schemas.openxmlformats.org/drawingml/2006/table">
            <a:tbl>
              <a:tblPr/>
              <a:tblGrid>
                <a:gridCol w="388800"/>
                <a:gridCol w="793800"/>
                <a:gridCol w="622440"/>
                <a:gridCol w="498240"/>
                <a:gridCol w="685800"/>
                <a:gridCol w="747720"/>
                <a:gridCol w="935280"/>
                <a:gridCol w="834840"/>
                <a:gridCol w="595440"/>
                <a:gridCol w="531720"/>
                <a:gridCol w="422280"/>
              </a:tblGrid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лектроотрицательность элем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   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 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           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              1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g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          1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                                                                  0.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                                  1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      1.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n            1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             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         2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              0.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      1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 1.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                 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   1.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f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t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g                            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b             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      1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Лантаноиды- 1.08-1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Актиноиды   1.00-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11280" y="630864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аблица электроотрицательности по Пол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Рекомендуемая литерату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Кужаров А.С. Общая химия в машиностроительном ВУЗЕ. Конспект лекций для инженеров, Ростов-на-Дону,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Ахметов Н.С. Общая и неорганическая химия,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Глинка Н.Л. Общая химия, М.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Некрасов Б.В. Курс обшей химии, М., 1962 –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istry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.msu.su/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я открытия. Предшестве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75272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триад Дёберейн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2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асположить три сходных по химическим свойствам элемента в порядке возрастания их атомных весов, то атомный вес второго элемента будет равен среднему арифметическому атомных весов первого и треть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Литий Li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Li)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6,94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r>
              <a:rPr b="0" lang="ru-RU" sz="1800" spc="-1" strike="noStrike" baseline="-25000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атрий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Na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 2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99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Калий K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K) =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39,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02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½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i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)) ≈ 23,0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2949480" cy="226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51640" y="3284640"/>
            <a:ext cx="2222280" cy="2763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95080" y="6093000"/>
            <a:ext cx="31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Иоганн Вольфганг Дёберейн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780-18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645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ираль Шанкурту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3075120"/>
            <a:ext cx="4105440" cy="355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327816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724360" y="3141720"/>
            <a:ext cx="2232360" cy="2951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66480" y="6093000"/>
            <a:ext cx="399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Александр Эмиль Бегуйе де Шанкурту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20-18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981000"/>
            <a:ext cx="4572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Земная спираль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анкурту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862 г.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оковую поверхность цилиндра, разделенную на 16 частей, нанесена линия под углом 45°, на которой отмечены точки, соответствующие атомным весам элемен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одные по свойствам элементы группируются на одной вертикальной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678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октав Ньюленд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1951200" cy="26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4968720" cy="2508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81520" y="692280"/>
            <a:ext cx="3462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65 г. Ньюлендс опубликовал таблицу элементов, назвав её 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 окта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мера аналогичных элемен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ак правило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личают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целое число сем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или на кратное семи; другими словами, члены одной и той же группы соотносятся друг с другом в том же отношении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и крайние точки одной или больш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тав в музык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6058080"/>
            <a:ext cx="397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жон Александр Рейна Ньюлендс, 1837-1898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5364360" cy="288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341360"/>
            <a:ext cx="432000" cy="2879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005360"/>
            <a:ext cx="1079640" cy="720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1871640" y="4473360"/>
            <a:ext cx="71280" cy="1871640"/>
          </a:xfrm>
          <a:custGeom>
            <a:avLst/>
            <a:gdLst>
              <a:gd name="textAreaLeft" fmla="*/ 45720 w 71280"/>
              <a:gd name="textAreaRight" fmla="*/ 71640 w 71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1628640"/>
            <a:ext cx="64800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928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Мей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72360" y="3716280"/>
            <a:ext cx="2090520" cy="2476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67280" y="836640"/>
            <a:ext cx="327672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64 г. Мейер опубликовал таблицу из 28 элементов, группируя их по валентности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rtig}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ограничил число элементов, чтобы подчеркнуть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ерное изменение атомной массы в рядах подобных эле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блица 1870 г. состояла из девяти столбц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которые ячейки таблицы Мейер оставил незаполнен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6276960"/>
            <a:ext cx="32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Юлиус Лотар Мей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30-189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660640"/>
            <a:ext cx="41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блица Мейера 1864 г. (фрагмен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5830920" cy="3764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67280" y="4724280"/>
            <a:ext cx="1009440" cy="433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2349360"/>
            <a:ext cx="54007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2195640" cy="2447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1973160" cy="2519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3357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МЕНДЕЛЕЕВ Дмитрий Иванович (1834-19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ссийский химик, разносторонний ученый, педаго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крыл (1869) периодический закон химических элементов — один из основных законов естествозн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вил св. 500 печатных трудов, среди которых классические «Основы химии» (ч. 1-2, 1869-71, 13 изд., 1947) — первое стройное изложение неорганической хим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втор фундаментальных исследований по химии, химической технологии, физике, метрологии, воздухоплаванию, метеорологии, сельскому хозяйству, экономике, народному просвещению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ложил основы теории растворов, предложил промышленный способ фракционного разделения нефти, изобрел вид бездымного пороха, пропагандировал использование минеральных удобрений, орошение засушливых земел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ин из инициаторов создания Русского химического общества (1868). Профессор Петербургского университета (1865-90), ушел в отставку в знак протеста против притеснения студен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тор и первый директор (1893) Главной палаты мер и весов (ныне ВНИИ метрологии им. Менделеев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640" y="115560"/>
            <a:ext cx="613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вая формулировка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2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марта 186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г. Д.И. Менделеев опубликовал (в Журнале Русского Химического Общества) первую статью о периодическом законе на русском и французском языках, где впервые сформулировал Периодический зак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…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войства элементов, а потому и свойства образуемых ими простых и сложных тел состоят в периодической зависимости от их атомного веса…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Таблица «Опыт системы элементов» (Д. И. Менделеев; 1869)"/>
          <p:cNvPicPr/>
          <p:nvPr/>
        </p:nvPicPr>
        <p:blipFill>
          <a:blip r:embed="rId1"/>
          <a:stretch/>
        </p:blipFill>
        <p:spPr>
          <a:xfrm>
            <a:off x="395280" y="1052640"/>
            <a:ext cx="4392720" cy="5805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ность открытия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518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щность открытия Менделее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с ростом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томной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химических элементов их свойства меняю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монотонно, а периодиче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лич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нделеева от работ предшественников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ссификация все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звестных к тому времен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лемент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основе их атомных масс и химических свой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р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томные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которых элементов (например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берилл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ин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ур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це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итана, иттр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ст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сколько элементов в своей системе вопреки принятым в то время представления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 их сходстве с другими (например, таллий, считавшийся щелочным металлом, он поместил в третью группу согласно его фактической максимальной валентности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аблице пустые клет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где должны были разместиться пока не открытые элементы. В 1875-1866 гг. открыты галлий (экаалюминий), скандий (экабор) и германий (экасилиц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>
            <a:lum bright="4000"/>
          </a:blip>
          <a:stretch/>
        </p:blipFill>
        <p:spPr>
          <a:xfrm rot="5400000">
            <a:off x="6147360" y="1565640"/>
            <a:ext cx="2143080" cy="342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649840" y="4508640"/>
            <a:ext cx="28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Первая периодическая табл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7:45:22Z</dcterms:created>
  <dc:creator>Toshiba</dc:creator>
  <dc:description/>
  <dc:language>en-US</dc:language>
  <cp:lastModifiedBy>User</cp:lastModifiedBy>
  <dcterms:modified xsi:type="dcterms:W3CDTF">2011-09-15T08:00:20Z</dcterms:modified>
  <cp:revision>141</cp:revision>
  <dc:subject/>
  <dc:title>Периодический закон  Д.И. Менделеева</dc:title>
</cp:coreProperties>
</file>